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C47-3990-479E-87B6-AE9BD5FC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527-07C0-4E8C-9757-AD46F05D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25A-8373-42C7-AB60-1FAFE1D5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900-8D03-47D0-BDB5-E96AEB4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640-9CEC-4AB3-A7FA-C38C4734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C8FF-ACFB-4524-AAE2-4A1D01F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80A4-FBF9-412B-A661-FA91E0D7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41A4-47A5-4E67-AD4F-221BD9D8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6B9C-2566-4457-AC5A-C647B93B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9592-55FC-4724-B61C-499314A3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247F-B576-40DD-BE20-5F99E99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D40-816C-4FB3-A742-75E3124A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B94D-9034-44E7-BEC2-DF3D9CCD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DD0C-55A7-42CD-83F6-8FEB09D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DC5-29B8-46D8-99D7-6C938333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C52D-7D0B-416F-99C9-51583322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8F9A-7FF1-4DA5-B037-BAE567AA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B13E-D5B4-464F-A737-A42E5CBE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39DB-2E45-4934-950B-1C2A19D6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C751-B0F5-4781-8C2F-5C0C90B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28F9-7C5B-4F00-965B-11F91029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1F6E-B81E-4791-9D45-CE9D338F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CE1-EC13-4B7E-84DE-FAAC24D9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E065-8D05-4446-9637-F40B83C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0624-66FA-4C32-9565-0D15F36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D9DA-CB5D-46E3-947E-DF02D67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C5AA-ADF5-467A-9F3E-C2FB82B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B1FB-EEE2-4944-8F70-4CFF4932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62D9-2914-4537-9C90-D72592E6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1799-F80F-4DC2-9946-5605D5A2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130E-CB6B-4025-A9C1-3EB63F8A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AF091-5A4B-4C72-8DCF-D80E72A4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69C42-6960-4934-87F2-9E155BB0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9D1-1743-44BF-9373-A2B0FF70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52A6-4A35-4DB1-9439-70363F40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CF7B4-A910-4BD4-ADCE-9355D40C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2E15A-4B50-47B5-A967-608990E5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7A0E-3CEA-4919-85F8-DB30E926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3BF5-53C0-4DFC-954C-374CB393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D8AE-EE67-4930-801E-522C98C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70DD-D01C-428D-BABF-0593410B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EC60-057C-4BBF-8236-C8A926B2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A1FA-1124-4141-9409-18826598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6A09D-67BD-4599-B049-2C25161E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CFA-ABA5-4AE3-AEF1-13BB254D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5FE02-9D83-44C3-9471-9DE46900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C23F-A533-4FA2-A832-2BA9B801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59A9B-FA7B-4203-BE4F-CFB9554F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ABF45-CDF5-4ED8-9B05-2F3DC347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9B00-2279-4CF7-BECD-9B9FEEC0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E28C5-E328-45A8-B2C6-CBD12313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8073D-A6A7-4BB6-AC60-6A720CB4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02A0-AA75-4B2F-85E7-A76E5C50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867E8-9C2E-4B29-9A06-6A679B2D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C76E7-FF10-4DC4-AE1D-ADB04974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3A3-7C10-44DF-BF12-58EFB540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8AC9-5076-4B07-9F87-05D0379C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D332-81A5-4937-8091-CEEC4FA1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98BBC-61DD-4C5E-84A3-3B27783F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BB869-0A32-4E22-BF41-504BF9B8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54F5D-6640-4214-904A-3CC1F8AF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E0B40-66D3-4292-93C3-BD76D39E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C5B45-5FD2-436B-A847-66121C34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47945-35F7-4C89-AB2A-DB521346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C65B2-C255-4996-B2D4-EDCBA6FB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19F5-D259-4355-A9C4-E16CAF30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C01-AD21-40D3-BAAB-148A2C8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F0AED-3451-49A4-A1B1-CA3D5533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CC486-5371-4DFF-B40F-A53D9AE4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57AA2-380D-48E2-9CD6-CB97B46E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1EF1-8017-4414-B83D-5615586E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5D2A4-F804-446E-AB2A-FEFA850D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FDBE6-3AC8-45D2-8FCA-361E8161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B30FE-1A23-44CB-BBCA-9CAEA982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1A8CA-D85F-448A-A837-53972143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A97C3-2CCF-4090-90A4-66E3BC55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A2AD9-DF26-4538-A1A3-3959C7F0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2D8-8429-4311-A666-024137C8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873E7-166A-422C-ACC1-549178D3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FC2C3-BE6B-4165-A0B4-2172424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2C1AF-CA45-4A5E-8821-6C058060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B89F3-2610-44AD-BA22-913575CE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C869-C054-46CE-BFC0-E401AB6C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B44-8365-418B-9817-3510FAB9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598B-0465-43E0-8444-BBB186C5A9F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2D70-40BA-48B4-A897-7975F32CEDB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33CE-409C-443E-BFBC-8CE9BF384F3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6533-1D59-4329-A112-FCC86156BB0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F3FC-439D-48FF-9E27-3D49AD8E82C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1E04-8417-4BA3-925D-9AF766877FA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D0B7-A544-4CF7-9106-50F93E439964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36FA-B5B8-41C1-8086-460B5113322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2CD2-6559-4613-A32A-CF6A8BBEB4D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F622-2B5D-484B-A093-FF10730D1D8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51FA-634E-4E01-9917-9090CD1999C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951F-A411-4E28-B526-F22E8A36759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EB71-D2F5-4A23-B362-F8EC482823C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B41A-0B3C-46F1-9D56-62AAE38B78E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3.moew.government.bg/files/file/PNOOP/PRAVILNIK_za_ROISV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3.moew.government.bg/files/file/Industry/Legislation/tarifi/TARIFA_za_taksite_koito_se_sybirat_v_sistemata_na_Ministerstvoto_na_okolnata_sreda_i_vodite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9BBC-2A20-410D-91FC-A1A3E39B10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77708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i="1" lang="bg-BG" sz="2900" spc="-1" strike="noStrike">
                <a:solidFill>
                  <a:srgbClr val="31b6fd"/>
                </a:solidFill>
                <a:latin typeface="Constantia"/>
              </a:rPr>
              <a:t>ПРОЦЕДУРАТА ПО ЕКОЛОГИЧНА ОЦЕНКА (ЕО), в т.ч. ОЦЕНКА ЗА СЪВМЕСТИМОСТ  (ОС), ЗА МЕСТНИТЕ СТРАТЕГИИ ЗА РАЗВИТИЕ  (МСР) НА МЕСТНИТЕ ИНИЦИАТИВНИ ГРУПИ (МИГ)</a:t>
            </a:r>
            <a:br>
              <a:rPr sz="2900"/>
            </a:br>
            <a:r>
              <a:rPr b="1" i="1" lang="bg-BG" sz="2000" spc="-1" strike="noStrike">
                <a:solidFill>
                  <a:srgbClr val="31b6fd"/>
                </a:solidFill>
                <a:latin typeface="Arial"/>
              </a:rPr>
              <a:t>(27 ФЕВРУАРИ, 2015 г.)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5013000"/>
            <a:ext cx="860436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33"/>
                </a:solidFill>
                <a:latin typeface="Constantia"/>
              </a:rPr>
              <a:t>Райна Георгиев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33"/>
                </a:solidFill>
                <a:latin typeface="Constantia"/>
              </a:rPr>
              <a:t>гл.експерт в отдел “ОВОС и ЕО”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33"/>
                </a:solidFill>
                <a:latin typeface="Constantia"/>
              </a:rPr>
              <a:t> </a:t>
            </a:r>
            <a:r>
              <a:rPr b="1" i="1" lang="bg-BG" sz="1600" spc="-1" strike="noStrike">
                <a:solidFill>
                  <a:srgbClr val="333333"/>
                </a:solidFill>
                <a:latin typeface="Constantia"/>
              </a:rPr>
              <a:t>дирекция “Превантивна дейност”, МОСВ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BBBA-F7F0-4054-8610-2EC30C1CAA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503280" y="620640"/>
            <a:ext cx="815796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Нормативни изисквания за провеждане на процедура по ЕО, в т.ч. ОС, за М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79280" y="2133720"/>
            <a:ext cx="871380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СР отговарят на изискванията на т. 22 от </a:t>
            </a:r>
            <a:r>
              <a:rPr b="1" i="1" lang="en-US" sz="1600" spc="-1" strike="noStrike">
                <a:solidFill>
                  <a:srgbClr val="000000"/>
                </a:solidFill>
                <a:latin typeface="Constantia"/>
                <a:ea typeface="Verdana"/>
              </a:rPr>
              <a:t>§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1 на ДР на Закона за опазване на околната среда (ЗООС): изискват се от законови, нормативни или административни разпоредби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И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 е предмет на подготовка и/или приемане от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убличен орган на местно равн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СР включват приоритети и мерки, които попадат в обхвата на областите по чл. 85, ал.1 на ЗООС (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селско стопанство, горско стопанство, рибарство, туризъм и др.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) и мерките очертават рамката за бъдещо развитие на инвестиционни предложения по Приложения № 1 и № 2 на ЗО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ъв връзка с горното, МСР попадат в обхвата на чл. 2, ал.2, т.3 от Наредбата за условията и реда за извършване на екологична оценка на планове и програми</a:t>
            </a:r>
            <a:r>
              <a:rPr b="1" i="1" lang="en-US" sz="1600" spc="-1" strike="noStrike">
                <a:solidFill>
                  <a:srgbClr val="000000"/>
                </a:solidFill>
                <a:latin typeface="Constantia"/>
                <a:ea typeface="Verdana"/>
              </a:rPr>
              <a:t>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(Наредбата за ЕО) и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одлежат на процедура по преценяване на необходимостта от извършване на екологична оценка (ЕО).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Чрез нея се извършва и процедурата по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оценка за съвместимост (ОС)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с предмета и целите на опазване на защитените зони от мрежата „Натура 2000“ на основание чл. 31, ал.4 от Закона за биологичното разнообразие (ЗБ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BC0F-D930-48EE-9396-66E7797E6C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468360" y="692280"/>
            <a:ext cx="8157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Цели на процедурата по преценяване на необходимостта от извършване на ЕО и 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90440" y="1916280"/>
            <a:ext cx="87138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цедурата по ЕО е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транспонирана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 в българското законодателство от Директива </a:t>
            </a:r>
            <a:r>
              <a:rPr b="1" i="1" lang="ru-RU" sz="1600" spc="-1" strike="noStrike">
                <a:solidFill>
                  <a:srgbClr val="000000"/>
                </a:solidFill>
                <a:latin typeface="Constantia"/>
                <a:ea typeface="Verdana"/>
              </a:rPr>
              <a:t>2001/42/ЕО на Европейския парламент и на Съвета от 27 юни 2001 година относно оценката на последиците на някои планове и програми върху околн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Чрез процедурата по ЕО се цели интегриране на екологичните съображения при самото изготвяне на МСР,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реди нейното одобр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Целта на нормативно определената процедура е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реценяване дали прилагането на конкретна МСР  има потенциал да доведе до значително въздействие върху околната среда и здравето на хората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. Това става въз основа на критерии за определяне на значимостта на въздействието върху околн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 резултат на процедурата в проекта на МСР, при необходимост, може да настъпят промени, като например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отпадане на дейности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, които имат потенциал за значително въздействие върху околната среда или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включване на мерки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, чрез които да се ограничат и предотвратят очаквани отрицателни въздействия върху околн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5CD6-BDB1-45D3-9C9A-483C92D6F125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498600" y="549360"/>
            <a:ext cx="8157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Етап от изготвянето на МСР, на който се провежда процедурата и компетентен орган по околна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206280" y="1852560"/>
            <a:ext cx="871236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цедурата по преценяване на необходимостта от извършване на ЕО се провежда при етап на готовност на проекта на МСР,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на който са ясни приоритетите, допустимите мерки и дейности.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цедурата по ЕО следва да приключи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реди одобряването на МС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Компетентният орган по околна среда за провеждане на процедурата по преценяване на необходимостта от извършване на ЕО 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инистър на околната среда и водите – </a:t>
            </a:r>
            <a:r>
              <a:rPr b="1" i="1" lang="bg-BG" sz="1600" spc="-1" strike="noStrike" u="sng">
                <a:solidFill>
                  <a:srgbClr val="ff0000"/>
                </a:solidFill>
                <a:uFillTx/>
                <a:latin typeface="Constantia"/>
                <a:ea typeface="Verdana"/>
              </a:rPr>
              <a:t>когато МСР попада в обхвата на повече от една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 Регионална инспекция по околна среда и води /РИОСВ/ (териториалният обхват на всяка една от 16-те РИОСВ е определен със Заключителните разпоредби към Правилника за устройството и дейността на регионалните инспекции по околната среда и водите (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onstantia"/>
                <a:ea typeface="Verdana"/>
                <a:hlinkClick r:id="rId1"/>
              </a:rPr>
              <a:t>http://www3.moew.government.bg/files/file/PNOOP/PRAVILNIK_za_ROISV.pdf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Директорът на съответната РИОСВ –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когато МСР попада в териториалния обхват на една РИОС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120D-FE64-4B17-A81C-349B3D712729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498600" y="404640"/>
            <a:ext cx="8157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Необходими действия от страна на МИГ за провеждане на процедурата по преценяване на необходимостта от извършване на ЕО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108000" y="1852560"/>
            <a:ext cx="88106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За провеждане на процедурата МИГ следва да изготвят и внесат в съответната РИОСВ/МОСВ следната документ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Искане за преценяване на необходимостта от извършване на екологична оценка, съдържащо подробна информация по чл. 8, ал.1 и ал.2 от Наредбата за ЕО (</a:t>
            </a:r>
            <a:r>
              <a:rPr b="1" i="1" lang="bg-BG" sz="1600" spc="-1" strike="noStrike" u="sng">
                <a:solidFill>
                  <a:srgbClr val="ff33cc"/>
                </a:solidFill>
                <a:uFillTx/>
                <a:latin typeface="Constantia"/>
                <a:ea typeface="Verdana"/>
              </a:rPr>
              <a:t>пример – попълнено искане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) – по един екземпляр на хартиен и електронен носит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ект на МСР – на електронен носит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Копие на документ за платена такса по чл. 1 , ал.5, т.4 (400 лв.) от Тарифата за таксите, които се събират в системата на МОСВ (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onstantia"/>
                <a:ea typeface="Verdana"/>
                <a:hlinkClick r:id="rId1"/>
              </a:rPr>
              <a:t>http://www3.moew.government.bg/files/file/Industry/Legislation/tarifi/TARIFA_za_taksite_koito_se_sybirat_v_sistemata_na_Ministerstvoto_na_okolnata_sreda_i_vodite.pdf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Тъй като таксата се заплаща по банков път, следва да се провери на интернет страницата на или чрез обаждане до съответната РИОСВ/МОСВ за банковата сметка, по която се превежда сумат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93F4-EB53-4565-BD35-28CC310DAA0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611280" y="333360"/>
            <a:ext cx="8157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Необходими действия от страна на МИГ за провеждане на процедурата по преценяване на необходимостта от извършване на ЕО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23840" y="1916280"/>
            <a:ext cx="88106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Нормативният срок за произнасяне на компетентния орган по околна среда с решение за необходимостта от извършване на ЕО е 30 дни от внасяне на искането. При постановяване от компетентния орган по околна среда на Решение с характер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„да не се извършва ЕО“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, процедурата приключва на този ета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ИГ имат задължение да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убликуват решението за обществен достъп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(на интернет страницата с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 случай, че в Решението с характер „да не се извръшва ЕО“ се съдържат условия,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МИГ следва, най-късно 14-дни преди одобряването на МСР да внесат в РИОСВ/МОСВ т.нар. обобщена справка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о чл. 29, ал.1 от Наредбата за ЕО. Справката следва да съдържа информация как ще бъдат изпълнени и съобразени поставените в решението условия. Компетентният орган по околна среда се произнася по справката в 7-дневен срок от нейното внася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ИГ имат задължението да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убликуват приетата справка за обществен достъ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 случай, че решението е с характер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 „да се извърши ЕО“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цедурата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родължава (средно 4-5 месеца)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75F7-6E1E-4392-B345-DAAE1E9804E7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27120" y="189000"/>
            <a:ext cx="8157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Действия, които МИГ следва да предприемат при изменения/актуализации на М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2440" y="2349360"/>
            <a:ext cx="88106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За всяко изменение/актуализация на МСР, МИГ е необходимо да уведомят компетентния орган по околна среда. За целта следва съответната МИГ да внесе в РИОСВ/МОСВ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информация за същността на предвидените изменения/актуализации на МСР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, преди изменението/актуализацията да бъде одобре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ъз основа на внесената документация компетентният орган по околна среда преценява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дали изменението/актуализацията подлежи на нова процедура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о преценяване на необходимостта от извършване на Е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 случай, че се изисква процедура по преценяване на необходимостта от извършване на ЕО за актуализация/изменение на МСР,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действията, които МИГ предприема, са същите като за МСР. </a:t>
            </a: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E53F-4CB8-4CD9-97C0-07FB29A620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1908000" y="1844640"/>
            <a:ext cx="537696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70c0"/>
                </a:solidFill>
                <a:latin typeface="Constantia"/>
              </a:rPr>
              <a:t>БЛАГОДАРЯ  ВИ </a:t>
            </a:r>
            <a:r>
              <a:rPr b="1" i="1" lang="en-US" sz="32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1" i="1" lang="bg-BG" sz="3200" spc="-1" strike="noStrike">
                <a:solidFill>
                  <a:srgbClr val="0070c0"/>
                </a:solidFill>
                <a:latin typeface="Constantia"/>
              </a:rPr>
              <a:t>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70c0"/>
                </a:solidFill>
                <a:latin typeface="Constantia"/>
              </a:rPr>
              <a:t>ВНИМАНИЕТ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ИНФОРМАЦИЯ ЗА КОНТАК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тел.: 02/940-62-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georgieva@moew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2:54:32Z</dcterms:created>
  <dc:creator>jaky</dc:creator>
  <dc:description/>
  <dc:language>en-US</dc:language>
  <cp:lastModifiedBy>user</cp:lastModifiedBy>
  <dcterms:modified xsi:type="dcterms:W3CDTF">2015-02-26T06:34:06Z</dcterms:modified>
  <cp:revision>560</cp:revision>
  <dc:subject/>
  <dc:title>General</dc:title>
</cp:coreProperties>
</file>