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7F4-5F26-4437-8EE1-7888EFAE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058-D666-4BA2-9D54-022A8F2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15C-690F-44D8-B3FE-35CEFF16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049-FD8C-45D4-BB4C-A322719D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66C-9A9E-4255-A240-13693EC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AD47-DCE9-4580-B257-3FB09CF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326A-0E81-46DA-9BD3-F252E72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1D8-8580-4E96-9115-CAB896A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00D4-9324-4731-8534-4B99FED9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70CC-E6D9-4837-93BE-6EE4A6F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DBA-0162-49D6-8E1F-894E11C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D24-1682-4AE5-921A-EADA519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E30D-8D10-4E59-81D8-8CE7433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D945-4C12-4F62-90B7-8F5BC6A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FA41-6470-43AA-AD7B-BA3BEAA0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FB6D-19DB-4067-A34F-EC62DE4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EE8-6A05-4E3C-951B-E690FC2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F43F-C141-4564-A1D6-DA1D80A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912C-F87B-43ED-B2BD-406A88E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D640-5FF9-4821-AB3A-3944BBA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E810-8851-4932-94D9-37AD9D3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DBF7-D696-4181-9C20-8EA16AE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3CA-C3A0-4EB5-B33F-9E61293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2385-31ED-4B6C-AAA7-C63A9953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0C26-DC6C-486D-9CF9-271FD2A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8E5F-3F40-4DF9-B02C-8561B93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EBFE-5F77-491C-860F-57E3D34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FC01-F905-4C28-8794-AE8260EB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992F-E064-4493-BCCB-89B151A2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0D53-5051-4EF2-A118-381121F1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98EC-5FFC-4008-90AF-0F36F9EC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C5B7-A87A-463E-B2F7-1455365C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AC69-731A-4884-8911-CFE3F2E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D8B-75DD-489E-8F53-BCA7F10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6342-2F43-40DF-AEBF-F739661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4BFD-5564-4FFC-86D2-5ACCF48E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AE65-60B4-4CAD-B837-3368D533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3B35-B4EC-4766-9D99-983A9FF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A1DC-82AC-4E8D-AD49-A5FA303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001C-E38D-4C62-BFF4-6B03D3D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FE37-5BEF-4602-AD9B-698C5906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18EB-CF45-46A7-ACD6-406674B1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ABCA-B2A6-456A-92E5-1A13616C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AE4C-B06D-46BF-A833-2F41E5AE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D61-F9B2-4BBC-A2BE-717D8F88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010F-6DE8-4BEB-AB39-2325D6D3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93E5-1277-44FE-9488-C3351BDF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47A2-2E1E-40F9-B5F7-40F7621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C97A-C90B-434C-B631-2FFA044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974E-E4C2-49E3-837E-47A175B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E1ED-869B-44B6-9E85-C6D43456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3D00-A7F2-464F-BD68-9F1C8AF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F378-D1B3-48FA-8B3B-91B2F4B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DF43-46F6-4B11-BD70-34F997E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F98D-2ECA-4EDB-9B61-43BFFD02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624-D9DB-441A-9FDD-5631C3C3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CCE6-6B43-4D23-B366-B457E4E0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3314-A0D3-44D8-8729-190D647A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49CC-E3FC-4D6F-8F40-3BCAADE0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F9CA-D962-4B2C-BECF-12FE12D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0255-C95F-43C9-8224-551AB6E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D35C-5433-4F67-B471-5F89F56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4D58-1221-4298-A907-81BA8A0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592C-8AAD-40FC-87DA-5B07548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ED27B-7434-4E27-832E-33DD3CB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FD76-8390-4195-AE11-6B00CB0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AFB-24CB-41D3-8BC6-7620AB1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B1D6-3FD7-4666-B563-D258FDA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7B52-D18D-481D-8309-BACCD7E6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0E7B-9F87-475A-8B16-56C57198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0AB6B-8413-40BC-AA71-E435F560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ADB2C-1BFA-4B9E-8492-AA1402EE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B928A-113D-4C05-B90B-1CD822D6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990E-05CB-45CF-90CF-545BDE43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8360-2290-4502-907A-BDB3A33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CCB2-172E-4C01-851B-6684F79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F739-C612-4C94-B9A9-EAC62C6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DFA-931B-431C-9D38-35A7869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B38E-10F0-4E1E-8875-6F1D23E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9DF6C-B55E-4699-997B-1275484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FC798-98CC-4A56-8138-D5996AB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53B0-EC22-48EF-9B43-88724469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C4724-8AD2-4CE0-B3FB-1B7ECD66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623-3E22-4B9C-89C2-B7DE8E0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F29A-EE17-4A67-8A3B-98DC79AE512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0FD8-B7DA-4B17-839F-CDC7A40CF28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49E-4C13-477B-97C5-572D4C72C83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975-4BD7-4DD3-94AD-E2A218EC57A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252-2D7B-42E5-B866-528B9FDBE96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2DC2-7D05-477C-A28F-DDCB8E986C9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50A1-DA03-47E4-B6F3-14215062DB9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67D1-7D19-4A08-B250-8F1EC46A47E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ABC-B30E-4512-8F68-47675F2FBD5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0A2-AD84-454F-9BB8-8E146633CD7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B53A-3662-49E1-BA3A-D5E036F50BE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C24-0908-46A5-A224-399D006575C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C9D0-2210-4406-AA30-0B07AE77E06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4EE5-09E1-4D83-AC0C-346E3B5A01D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3.moew.government.bg/files/file/PNOOP/PRAVILNIK_za_ROISV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3.moew.government.bg/files/file/Industry/Legislation/tarifi/TARIFA_za_taksite_koito_se_sybirat_v_sistemata_na_Ministerstvoto_na_okolnata_sreda_i_vodite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5C2-5465-44E9-B3E1-40265B2530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77708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i="1" lang="bg-BG" sz="2900" spc="-1" strike="noStrike">
                <a:solidFill>
                  <a:srgbClr val="31b6fd"/>
                </a:solidFill>
                <a:latin typeface="Constantia"/>
              </a:rPr>
              <a:t>ПРОЦЕДУРАТА ПО ЕКОЛОГИЧНА ОЦЕНКА (ЕО), в т.ч. ОЦЕНКА ЗА СЪВМЕСТИМОСТ  (ОС), ЗА МЕСТНИТЕ СТРАТЕГИИ ЗА РАЗВИТИЕ  (МСР) НА МЕСТНИТЕ ИНИЦИАТИВНИ ГРУПИ (МИГ)</a:t>
            </a:r>
            <a:br>
              <a:rPr sz="2900"/>
            </a:br>
            <a:r>
              <a:rPr b="1" i="1" lang="bg-BG" sz="2000" spc="-1" strike="noStrike">
                <a:solidFill>
                  <a:srgbClr val="31b6fd"/>
                </a:solidFill>
                <a:latin typeface="Arial"/>
              </a:rPr>
              <a:t>(27 ФЕВРУАРИ, 2015 г.)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5013000"/>
            <a:ext cx="86043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Райна Георгиев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гл.експерт в отдел “ОВОС и ЕО”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 </a:t>
            </a:r>
            <a:r>
              <a:rPr b="1" i="1" lang="bg-BG" sz="1600" spc="-1" strike="noStrike">
                <a:solidFill>
                  <a:srgbClr val="333333"/>
                </a:solidFill>
                <a:latin typeface="Constantia"/>
              </a:rPr>
              <a:t>дирекция “Превантивна дейност”, МОС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A5B6-B38F-4F34-ABAD-54AD71FA83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03280" y="620640"/>
            <a:ext cx="81579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ормативни изисквания за провеждане на процедура по ЕО, в т.ч. ОС, за М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9280" y="2133720"/>
            <a:ext cx="871380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СР отговарят на изискванията на т. 22 от </a:t>
            </a:r>
            <a:r>
              <a:rPr b="1" i="1" lang="en-US" sz="1600" spc="-1" strike="noStrike">
                <a:solidFill>
                  <a:srgbClr val="000000"/>
                </a:solidFill>
                <a:latin typeface="Constantia"/>
                <a:ea typeface="Verdana"/>
              </a:rPr>
              <a:t>§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1 на ДР на Закона за опазване на околната среда (ЗООС): изискват се от законови, нормативни или административни разпоредб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е предмет на подготовка и/или приемане от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чен орган на местно равн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СР включват приоритети и мерки, които попадат в обхвата на областите по чл. 85, ал.1 на ЗООС (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селско стопанство, горско стопанство, рибарство, туризъм и др.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 и мерките очертават рамката за бъдещо развитие на инвестиционни предложения по Приложения № 1 и № 2 на ЗО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ъв връзка с горното, МСР попадат в обхвата на чл. 2, ал.2, т.3 от Наредбата за условията и реда за извършване на екологична оценка на планове и програми</a:t>
            </a:r>
            <a:r>
              <a:rPr b="1" i="1" lang="en-US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(Наредбата за ЕО) 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одлежат на процедура по преценяване на необходимостта от извършване на екологична оценка (ЕО).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Чрез нея се извършва и процедурата по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оценка за съвместимост (ОС)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с предмета и целите на опазване на защитените зони от мрежата „Натура 2000“ на основание чл. 31, ал.4 от Закона за биологичното разнообразие (ЗБ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2CA-36D1-4750-A571-626753C66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468360" y="692280"/>
            <a:ext cx="8157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Цели на процедурата по преценяване на необходимостта от извършване на ЕО и 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90440" y="1916280"/>
            <a:ext cx="87138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ЕО е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транспониран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в българското законодателство от Директива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  <a:ea typeface="Verdana"/>
              </a:rPr>
              <a:t>2001/42/ЕО на Европейския парламент и на Съвета от 27 юни 2001 година относно оценката на последиците на някои планове и програми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Чрез процедурата по ЕО се цели интегриране на екологичните съображения при самото изготвяне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ди нейното одобр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Целта на нормативно определената процедура е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ценяване дали прилагането на конкретна МСР  има потенциал да доведе до значително въздействие върху околната среда и здравето на хорат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. Това става въз основа на критерии за определяне на значимостта на въздействието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резултат на процедурата в проекта на МСР, при необходимост, може да настъпят промени, като например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отпадане на дейност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които имат потенциал за значително въздействие върху околната среда ил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включване на мерки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чрез които да се ограничат и предотвратят очаквани отрицателни въздействия върху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05B7-7A7D-4986-8BE3-69E351F0C8C9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498600" y="549360"/>
            <a:ext cx="8157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Етап от изготвянето на МСР, на който се провежда процедурата и компетентен орган по околна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06280" y="1852560"/>
            <a:ext cx="87123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преценяване на необходимостта от извършване на ЕО се провежда при етап на готовност на проекта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на който са ясни приоритетите, допустимите мерки и дейности.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по ЕО следва да приключи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еди одобряването на МС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Компетентният орган по околна среда за провеждане на процедурата по преценяване на необходимостта от извършване на ЕО 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нистър на околната среда и водите – </a:t>
            </a:r>
            <a:r>
              <a:rPr b="1" i="1" lang="bg-BG" sz="1600" spc="-1" strike="noStrike" u="sng">
                <a:solidFill>
                  <a:srgbClr val="ff0000"/>
                </a:solidFill>
                <a:uFillTx/>
                <a:latin typeface="Constantia"/>
                <a:ea typeface="Verdana"/>
              </a:rPr>
              <a:t>когато МСР попада в обхвата на повече от една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 Регионална инспекция по околна среда и води /РИОСВ/ (териториалният обхват на всяка една от 16-те РИОСВ е определен със Заключителните разпоредби към Правилника за устройството и дейността на регионалните инспекции по околната среда и водите (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onstantia"/>
                <a:ea typeface="Verdana"/>
                <a:hlinkClick r:id="rId1"/>
              </a:rPr>
              <a:t>http://www3.moew.government.bg/files/file/PNOOP/PRAVILNIK_za_ROISV.pdf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Директорът на съответната РИОСВ –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когато МСР попада в териториалния обхват на една РИОС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506-B5F7-47E7-8D95-9DB2EBBB6B9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498600" y="404640"/>
            <a:ext cx="815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еобходими действия от страна на МИГ за провеждане на процедурата по преценяване на необходимостта от извършване на ЕО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08000" y="1852560"/>
            <a:ext cx="88106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За провеждане на процедурата МИГ следва да изготвят и внесат в съответната РИОСВ/МОСВ следната докумен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Искане за преценяване на необходимостта от извършване на екологична оценка, съдържащо подробна информация по чл. 8, ал.1 и ал.2 от Наредбата за ЕО (</a:t>
            </a:r>
            <a:r>
              <a:rPr b="1" i="1" lang="bg-BG" sz="1600" spc="-1" strike="noStrike" u="sng">
                <a:solidFill>
                  <a:srgbClr val="ff33cc"/>
                </a:solidFill>
                <a:uFillTx/>
                <a:latin typeface="Constantia"/>
                <a:ea typeface="Verdana"/>
              </a:rPr>
              <a:t>пример – попълнено искане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 – по един екземпляр на хартиен и електронен носит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ект на МСР – на електронен носит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Копие на документ за платена такса по чл. 1 , ал.5, т.4 (400 лв.) от Тарифата за таксите, които се събират в системата на МОСВ (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onstantia"/>
                <a:ea typeface="Verdana"/>
                <a:hlinkClick r:id="rId1"/>
              </a:rPr>
              <a:t>http://www3.moew.government.bg/files/file/Industry/Legislation/tarifi/TARIFA_za_taksite_koito_se_sybirat_v_sistemata_na_Ministerstvoto_na_okolnata_sreda_i_vodite.pdf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Тъй като таксата се заплаща по банков път, следва да се провери на интернет страницата на или чрез обаждане до съответната РИОСВ/МОСВ за банковата сметка, по която се превежда сума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91E-21F1-4B26-B400-ADCE93E3A467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611280" y="333360"/>
            <a:ext cx="8157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Необходими действия от страна на МИГ за провеждане на процедурата по преценяване на необходимостта от извършване на ЕО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23840" y="1916280"/>
            <a:ext cx="88106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Нормативният срок за произнасяне на компетентния орган по околна среда с решение за необходимостта от извършване на ЕО е 30 дни от внасяне на искането. При постановяване от компетентния орган по околна среда на Решение с характер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„да не се извършва ЕО“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процедурата приключва на този ета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Г имат задължение д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куват решението за обществен достъп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(на интернет страницата с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в Решението с характер „да не се извръшва ЕО“ се съдържат условия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МИГ следва, най-късно 14-дни преди одобряването на МСР да внесат в РИОСВ/МОСВ т.нар. обобщена справка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о чл. 29, ал.1 от Наредбата за ЕО. Справката следва да съдържа информация как ще бъдат изпълнени и съобразени поставените в решението условия. Компетентният орган по околна среда се произнася по справката в 7-дневен срок от нейното внася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МИГ имат задължението д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убликуват приетата справка за обществен достъ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решението е с характер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 „да се извърши ЕО“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роцедурат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продължава (средно 4-5 месеца)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100000"/>
              </a:lnSpc>
              <a:spcBef>
                <a:spcPts val="601"/>
              </a:spcBef>
              <a:buClr>
                <a:srgbClr val="5eae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259-9491-433E-8581-68EED0893E9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27120" y="189000"/>
            <a:ext cx="815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bg-BG" sz="2400" spc="-1" strike="noStrike" u="sng">
                <a:solidFill>
                  <a:srgbClr val="ffffff"/>
                </a:solidFill>
                <a:uFillTx/>
                <a:latin typeface="Constantia"/>
              </a:rPr>
              <a:t>Действия, които МИГ следва да предприемат при изменения/актуализации на М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2440" y="2349360"/>
            <a:ext cx="88106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За всяко изменение/актуализация на МСР, МИГ е необходимо да уведомят компетентния орган по околна среда. За целта следва съответната МИГ да внесе в РИОСВ/МОСВ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информация за същността на предвидените изменения/актуализации на МСР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, преди изменението/актуализацията да бъде одобр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ъз основа на внесената документация компетентният орган по околна среда преценява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дали изменението/актуализацията подлежи на нова процедура </a:t>
            </a: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по преценяване на необходимостта от извършване на Е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Constantia"/>
                <a:ea typeface="Verdana"/>
              </a:rPr>
              <a:t>В случай, че се изисква процедура по преценяване на необходимостта от извършване на ЕО за актуализация/изменение на МСР, </a:t>
            </a:r>
            <a:r>
              <a:rPr b="1" i="1" lang="bg-BG" sz="1600" spc="-1" strike="noStrike">
                <a:solidFill>
                  <a:srgbClr val="ff0000"/>
                </a:solidFill>
                <a:latin typeface="Constantia"/>
                <a:ea typeface="Verdana"/>
              </a:rPr>
              <a:t>действията, които МИГ предприема, са същите като за МСР. </a:t>
            </a:r>
            <a:r>
              <a:rPr b="1" lang="bg-BG" sz="1600" spc="-1" strike="noStrike">
                <a:solidFill>
                  <a:srgbClr val="ff33cc"/>
                </a:solidFill>
                <a:latin typeface="Verdana"/>
                <a:ea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28B-4C3F-488E-A570-2BF70397D5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908000" y="1844640"/>
            <a:ext cx="53769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БЛАГОДАРЯ  ВИ </a:t>
            </a:r>
            <a:r>
              <a:rPr b="1" i="1" lang="en-US" sz="32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70c0"/>
                </a:solidFill>
                <a:latin typeface="Constantia"/>
              </a:rPr>
              <a:t>ВНИМАНИЕТ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ИНФОРМАЦИЯ ЗА КОНТА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тел.: 02/940-62-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georgieva@moew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2:54:32Z</dcterms:created>
  <dc:creator>jaky</dc:creator>
  <dc:description/>
  <dc:language>en-US</dc:language>
  <cp:lastModifiedBy>user</cp:lastModifiedBy>
  <dcterms:modified xsi:type="dcterms:W3CDTF">2015-02-26T06:34:06Z</dcterms:modified>
  <cp:revision>560</cp:revision>
  <dc:subject/>
  <dc:title>General</dc:title>
</cp:coreProperties>
</file>